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097666"/>
        <c:axId val="12324987"/>
      </c:barChart>
      <c:catAx>
        <c:axId val="830976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24987"/>
        <c:crosses val="autoZero"/>
        <c:auto val="1"/>
        <c:lblAlgn val="ctr"/>
        <c:lblOffset val="100"/>
        <c:noMultiLvlLbl val="0"/>
      </c:catAx>
      <c:valAx>
        <c:axId val="123249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0976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2FDB-4442-4C28-98E1-301198A14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3FF2-22C6-42A6-876B-31A21BE2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ADB4-0B68-4C18-8E02-073743840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A72C-5E6B-4181-B08F-A5572A968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08CF-3F56-4BCD-90EB-AEFE11F7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2AA6-4966-4591-9E03-2188D627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1E9D-8DD4-4CB9-83FC-3408C0C7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52D1-1867-4EDF-BA8C-57F57FE9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F5D6-23F8-4264-B238-C9B22205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8AE2-5888-42B3-8ACE-D8A8854C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9513-7FEE-404E-8D56-8B8CCB8E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5319-7D93-4085-81C7-B769F196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73899-C860-4887-A1C6-9D50208C1F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