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1183"/>
        <c:axId val="13867725"/>
      </c:barChart>
      <c:catAx>
        <c:axId val="5491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67725"/>
        <c:crosses val="autoZero"/>
        <c:auto val="1"/>
        <c:lblAlgn val="ctr"/>
        <c:lblOffset val="100"/>
        <c:noMultiLvlLbl val="0"/>
      </c:catAx>
      <c:valAx>
        <c:axId val="13867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1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6A9-4402-46D0-8605-EFB39235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EA4-37FB-4090-B94F-83368BC8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DE5-392B-4F38-8381-8D992F6F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437-8117-4D68-99F6-7E61177A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5D8-E8A5-4303-BC14-421035CE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21E-F3D3-4D15-AD2C-6C518927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7DD-12E4-4DED-B9CA-F3EE5686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637-8347-404D-8B4B-917E8786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056-639F-43FC-8533-62E4632A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CAC-974B-4E68-9E82-0C888B70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C6F-D67E-47B1-B48A-7EC19B5F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254-4C54-457F-A986-FD9E5EFE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7EE93-63EB-47D7-811C-D7F1C24786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