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75997"/>
        <c:axId val="82793857"/>
      </c:barChart>
      <c:catAx>
        <c:axId val="778759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93857"/>
        <c:crosses val="autoZero"/>
        <c:auto val="1"/>
        <c:lblAlgn val="ctr"/>
        <c:lblOffset val="100"/>
        <c:noMultiLvlLbl val="0"/>
      </c:catAx>
      <c:valAx>
        <c:axId val="82793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759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5DD-F0E5-48C1-B359-CE9274F8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D2B-3B85-4A2E-9A71-E0F3A223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277-F8EA-47B2-8598-4B8901D3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39A-74A9-443E-B1E7-9571036C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6DB-BB49-4439-A010-B7B475E8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55E-9941-48D5-9263-5EFA2CAF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DCC-69A8-4778-B450-BC5EE7FA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FE7-E667-4430-A02B-735C6E2D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8BF-A8B5-460C-A7E1-A8D73952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463-57BA-43B3-9576-24C1F813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06D-BC64-4AE0-A89F-232E57F2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47D-22A2-4858-8B14-18557C16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8172E-34C2-400B-8AC1-174E07499D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