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94493"/>
        <c:axId val="43733533"/>
      </c:barChart>
      <c:catAx>
        <c:axId val="96894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33533"/>
        <c:crosses val="autoZero"/>
        <c:auto val="1"/>
        <c:lblAlgn val="ctr"/>
        <c:lblOffset val="100"/>
        <c:noMultiLvlLbl val="0"/>
      </c:catAx>
      <c:valAx>
        <c:axId val="43733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94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690-4B40-44B6-8016-D508FBEA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E8F-5128-48B4-B82C-AFF7F405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6D1-3CC6-45AD-BE15-76EAB1A5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641-0EB0-412D-9EDF-70D6C2EC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7C1-C494-478B-939C-7D9CF20F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CBB-69AC-4757-8BD9-72F91EFE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E80-EEAA-4A32-BDED-17D54558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BEF-18A2-47AB-A5EE-7EB1D3EE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22C-653D-4658-A4FE-95641E3B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25E-2A4A-49CF-A195-A9AD1F68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C7E-51E0-4CD5-A3DF-258957D6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ED2-35C6-4819-80C1-70008B9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FD698-CBB0-4502-B182-96018F5D2D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