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00374"/>
        <c:axId val="1091469"/>
      </c:barChart>
      <c:catAx>
        <c:axId val="24200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1469"/>
        <c:crosses val="autoZero"/>
        <c:auto val="1"/>
        <c:lblAlgn val="ctr"/>
        <c:lblOffset val="100"/>
        <c:noMultiLvlLbl val="0"/>
      </c:catAx>
      <c:valAx>
        <c:axId val="1091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00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1C6-C9CD-4095-B3E0-341AD303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8AC-3228-4FFA-8315-F0BA7E73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92F-507B-4FE3-B0F5-4375BBA9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70C-DB94-4FCF-8B98-B288C4CB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78C-2827-4260-9227-F94D3831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0CA-2767-418B-9A21-60EDF73F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008-3D70-4D9B-826C-56DDC9C0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170-ECF2-4C18-9033-BE733650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2A5-70AF-4681-840E-A895CAA4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739-81CB-41C0-8BA7-3935ECF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179-DAEA-4524-A925-4DC7CBD2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F24-DCBD-4749-8C7D-2995C63F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2487F-0383-428B-AA88-23C016663F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