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26009"/>
        <c:axId val="11661166"/>
      </c:barChart>
      <c:catAx>
        <c:axId val="69626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61166"/>
        <c:crosses val="autoZero"/>
        <c:auto val="1"/>
        <c:lblAlgn val="ctr"/>
        <c:lblOffset val="100"/>
        <c:noMultiLvlLbl val="0"/>
      </c:catAx>
      <c:valAx>
        <c:axId val="11661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26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415-8C4A-4E28-8A17-0F9165A7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7C1-7CD2-4FFB-9E1D-EA45531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992-23DC-4B52-B426-62F2B92B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CA2-ABA0-4D39-8151-A945AA70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041-FA1A-45CA-A044-CCD90C5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0C9-851C-4A41-B793-E6774A3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4F0-7728-4776-88F0-8B0C8FC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BEB-ECC2-4738-8F67-313E48F0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DC5-CC01-4E27-B502-117AD21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94A-0C85-401D-8E25-4F2D4AAF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400-13BE-43AB-A710-FF4B831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370-FD67-4DE4-8D8F-761DC8E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34B46-8BC9-4D6A-95DB-037192700F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