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67457"/>
        <c:axId val="66820481"/>
      </c:barChart>
      <c:catAx>
        <c:axId val="493674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20481"/>
        <c:crosses val="autoZero"/>
        <c:auto val="1"/>
        <c:lblAlgn val="ctr"/>
        <c:lblOffset val="100"/>
        <c:noMultiLvlLbl val="0"/>
      </c:catAx>
      <c:valAx>
        <c:axId val="668204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674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E243-1ED5-46A6-9853-7589EF47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345-E4E9-4888-9FA2-C45D28A7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C90-B0F5-4EF9-B294-E86EDD0A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B515-B7E8-4839-8752-0D29AF0F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349B-DB39-46B6-9C7D-E149E8F4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404-A92B-49A0-8251-5017B906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16B-5FC6-4DB0-B281-846EF4BE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446B-712E-45B4-ABFD-C961883C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F3F-A8C1-4F82-9CFD-520B22ED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FA9E-D99E-4986-8833-5ED6992F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1E3-8D3A-43D5-8396-0E0A9ED1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7F3A-7F6F-4662-874F-3B534097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EBDA6-6B62-4C14-B402-E02BA0948E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