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82710"/>
        <c:axId val="12991068"/>
      </c:barChart>
      <c:catAx>
        <c:axId val="29882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1068"/>
        <c:crosses val="autoZero"/>
        <c:auto val="1"/>
        <c:lblAlgn val="ctr"/>
        <c:lblOffset val="100"/>
        <c:noMultiLvlLbl val="0"/>
      </c:catAx>
      <c:valAx>
        <c:axId val="12991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2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BA7-F7D5-4D31-A7EE-1C794C01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046-97F0-4CD3-8290-DC683D29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770-1B5B-418A-9D50-9B904810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4C4-C588-4B60-A486-79F01FA1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CE1-B1D7-4095-A2BF-A586E37D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5AA-8044-42A1-9FAD-8B8EF71B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207-1393-470E-B7DF-37872F5D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7F6-6858-443D-8406-04FF3DA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575-A5E6-4455-BEBF-27869EE2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9DD-78EC-44AC-9D36-134C331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5D5-B0D4-46FA-94AB-F97AF88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B6F-DB60-4DF5-9451-C642C9B9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35F80-2D0B-4CBC-AFC3-6021435600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