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86933"/>
        <c:axId val="21182070"/>
      </c:barChart>
      <c:catAx>
        <c:axId val="15886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82070"/>
        <c:crosses val="autoZero"/>
        <c:auto val="1"/>
        <c:lblAlgn val="ctr"/>
        <c:lblOffset val="100"/>
        <c:noMultiLvlLbl val="0"/>
      </c:catAx>
      <c:valAx>
        <c:axId val="21182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6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0D6-1EB3-4593-990F-6999A61F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8D0-8EF3-429E-8FD1-0A99F0D6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5A9-7E19-4C1D-816D-9D8C79FC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A5D-3216-400A-A306-BDC107AC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C68-F1CD-4050-976D-731EDF03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080-8C9E-404B-A46B-3761FAC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737-82A0-4E66-B283-66E4F287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14C-2001-4A87-BA00-AD26309C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383-D4E6-470D-A226-A8DEE93A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810-903D-4396-8EE7-EDC8E41B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2A4-DB7A-4A2C-99EA-1EB6C101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7A0-414E-405E-A509-7D0168CF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302DD-3FF3-4C68-B8F2-57076D200C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