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300350"/>
        <c:axId val="7023744"/>
      </c:barChart>
      <c:catAx>
        <c:axId val="183003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23744"/>
        <c:crosses val="autoZero"/>
        <c:auto val="1"/>
        <c:lblAlgn val="ctr"/>
        <c:lblOffset val="100"/>
        <c:noMultiLvlLbl val="0"/>
      </c:catAx>
      <c:valAx>
        <c:axId val="70237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3003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128D-9846-48F9-B36D-C187DE116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23CE-0C92-4285-9FCF-B42F78ED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C581-7A4F-48F5-9474-E6D61CE53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CC8F-46D7-4E70-8907-136654DC4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C081-FC7E-4F2F-839F-1393DB23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6599-7C21-4FD9-9C6A-62CC2941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9A53-5EC2-45E2-931C-11F76991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C8A9-F618-4A9D-BFA1-A34DD7EB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EDAB-0B79-4C3E-BB55-F1A733D2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CD46-9EAB-4296-9C70-6B8BC63A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2837-9AAD-4B7C-8058-04709AA6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819A-F629-4EC4-92BC-28B476CD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B30C86-F231-4DB4-905A-246111E838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