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96820"/>
        <c:axId val="45166471"/>
      </c:barChart>
      <c:catAx>
        <c:axId val="32396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66471"/>
        <c:crosses val="autoZero"/>
        <c:auto val="1"/>
        <c:lblAlgn val="ctr"/>
        <c:lblOffset val="100"/>
        <c:noMultiLvlLbl val="0"/>
      </c:catAx>
      <c:valAx>
        <c:axId val="45166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9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8CB-F6B9-4AAF-BDD1-BB11B56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F64-A672-4523-A7FB-77BF6653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90A-AE8F-43A9-85CD-491A07A5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72C-A87C-4380-9921-81AA18A4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89C-6EE9-49B4-9533-D71FC02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28A-D18A-49CD-8B11-D27D21E9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35C-45CB-4EEA-AACD-9CC8975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744-F321-4FD7-9183-F363884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F72-9D82-4629-B1A9-5DDC2E8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35C-6DD7-4041-BB96-205819E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476-C981-4A0B-8B1C-AE5DF96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859-F3D7-48F2-AABD-3F0601D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4D009-68BE-4E02-88A1-3A0E7C9478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