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08"/>
        <c:axId val="39523886"/>
      </c:barChart>
      <c:catAx>
        <c:axId val="68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23886"/>
        <c:crosses val="autoZero"/>
        <c:auto val="1"/>
        <c:lblAlgn val="ctr"/>
        <c:lblOffset val="100"/>
        <c:noMultiLvlLbl val="0"/>
      </c:catAx>
      <c:valAx>
        <c:axId val="39523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914-285F-4CE0-9B46-77247CF2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008-4649-4E4F-8259-0E298B8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0E1-343B-4403-9F7B-8A6600EE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510-5AA7-4A85-8A14-A927294A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A35-B2B9-4456-9E9C-2DAA4DB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881-3200-4418-BC0A-F779FA26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00B-7110-48BF-9128-729B47E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CB4-132C-4265-A57D-776089E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9AC-13EF-439E-BF57-DDF406C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03A-0A3E-461F-91B9-FFF41DD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21A-5610-4323-A5B2-F0AAF1A7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D55-3107-46AE-A422-91B444F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2ECA4-58E6-48B8-B627-7751AFAD1A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