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63043"/>
        <c:axId val="7156175"/>
      </c:barChart>
      <c:catAx>
        <c:axId val="84363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6175"/>
        <c:crosses val="autoZero"/>
        <c:auto val="1"/>
        <c:lblAlgn val="ctr"/>
        <c:lblOffset val="100"/>
        <c:noMultiLvlLbl val="0"/>
      </c:catAx>
      <c:valAx>
        <c:axId val="7156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63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798-D2E6-456F-8576-EF7E75C4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4CE-1FB0-44E2-9238-AA6B7AF8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571-0349-4EBD-BDE4-B3283596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490-0193-40FF-9780-FE61353E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1BB-92B8-4402-9EE7-0BE40D91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737-DDB1-40EF-8330-9BB6BAFC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404-6DE5-4E7F-9F96-0245FD62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8DB-8A36-4841-AFD6-652638E7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A2E-5F54-4A76-9B09-14D252F8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A1C-522B-45EE-94D2-BFA84BD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4E9-CDE8-4088-AB44-9224E3A6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000-4C34-4425-BD6B-6054BDE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5EEF9-4247-4BFB-AE67-5EB0075037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