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34990"/>
        <c:axId val="52358344"/>
      </c:barChart>
      <c:catAx>
        <c:axId val="65334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8344"/>
        <c:crosses val="autoZero"/>
        <c:auto val="1"/>
        <c:lblAlgn val="ctr"/>
        <c:lblOffset val="100"/>
        <c:noMultiLvlLbl val="0"/>
      </c:catAx>
      <c:valAx>
        <c:axId val="52358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4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689-470D-4658-AA1D-75FC1AE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450-0C1B-4DBA-BFD9-C2DB2C0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CEF-AF84-4E2A-85A0-4DB25BF5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9DE-10F2-41F1-8E09-7E4F81F3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16E-2262-4322-A124-051EFA29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1F3-600C-4D09-AFED-731177C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823-38CD-4078-9890-D532702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D0D-42EC-4CB0-99D4-36CCE034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2B4-519E-42B5-9F77-C6640F5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14F-92F1-4D14-A184-586CA8E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4C1-C632-40DF-84D5-EC7A8E97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61B-E04E-4AA2-8810-F9B3D2B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1AE47-0918-49D5-9E0C-368264FB1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