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77370"/>
        <c:axId val="24238842"/>
      </c:barChart>
      <c:catAx>
        <c:axId val="21377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38842"/>
        <c:crosses val="autoZero"/>
        <c:auto val="1"/>
        <c:lblAlgn val="ctr"/>
        <c:lblOffset val="100"/>
        <c:noMultiLvlLbl val="0"/>
      </c:catAx>
      <c:valAx>
        <c:axId val="242388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77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3CFF-4A43-4077-8449-E74A6B07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580-1F9A-414E-A3A2-1103A87D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7D9D-674C-4E0A-B632-82F4229E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2BA-160B-4CC9-A1D5-361750FF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DCF-C2AC-4F9E-BC40-851A150B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933-3753-4466-9DA5-3D0A1192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3480-26CB-41CF-90D3-5AEC8AD3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5E6-49F7-4087-90B8-89637013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C40-56A0-45BF-8A10-9C50BFB7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04F0-52CA-4316-A15B-18057AD9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33B9-1774-4E5E-8BFD-3FA1F4EA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A1D-ACFC-4D07-99D1-8476652C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3E9BB-E15B-4DC9-B357-2952559684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