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53766"/>
        <c:axId val="70774048"/>
      </c:barChart>
      <c:catAx>
        <c:axId val="197537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74048"/>
        <c:crosses val="autoZero"/>
        <c:auto val="1"/>
        <c:lblAlgn val="ctr"/>
        <c:lblOffset val="100"/>
        <c:noMultiLvlLbl val="0"/>
      </c:catAx>
      <c:valAx>
        <c:axId val="70774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537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E60-4491-4A33-9E46-CB9DA6C6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D35A-DCCE-4051-9E29-D8F8EE61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DCA-B43B-42B6-82BC-9B7B7FF1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931B-319A-4821-83CE-AEA4A6D7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C9F-89E9-438D-B35C-F554F744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594-AA93-449E-8D89-BDDE9B8E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91EB-5483-47B1-9975-26E2B53C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91B-94CB-49A8-AC29-5882727C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8326-7DD2-4C1E-944A-DDA301E1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D83-FB31-4FE6-B8EC-205C05DA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C88-F73B-4896-8EB5-BCF23055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5E8-FCB3-4BFF-8B4D-E5E49F49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6943B-BE0C-4AC8-B531-5AD2D89781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