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32454"/>
        <c:axId val="92255027"/>
      </c:barChart>
      <c:catAx>
        <c:axId val="18432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55027"/>
        <c:crosses val="autoZero"/>
        <c:auto val="1"/>
        <c:lblAlgn val="ctr"/>
        <c:lblOffset val="100"/>
        <c:noMultiLvlLbl val="0"/>
      </c:catAx>
      <c:valAx>
        <c:axId val="92255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32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EDFE-3088-4A51-A9A6-2B80187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FF0-6DD9-4EEE-A49A-55938035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FE1-83FD-429E-A3AD-10A93226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AE8-1EFD-4F5F-BE84-EC97AE64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757-3A09-4E1B-A74A-9538671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3E6-1B84-4DBB-8A00-674A09C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981-9CB5-4114-B1DD-4163421F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9B6-4584-4223-BBB7-ABA61D0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AB1-58C3-4D27-B90A-67D01391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0BB-7DDA-4884-9334-60A0C7D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D37-A065-48F8-8F1E-3807CC93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4D4-764B-4E7E-AB75-AF343402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71F53-B382-480E-AFA8-39DA03640A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