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66937"/>
        <c:axId val="46660119"/>
      </c:barChart>
      <c:catAx>
        <c:axId val="80866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0119"/>
        <c:crosses val="autoZero"/>
        <c:auto val="1"/>
        <c:lblAlgn val="ctr"/>
        <c:lblOffset val="100"/>
        <c:noMultiLvlLbl val="0"/>
      </c:catAx>
      <c:valAx>
        <c:axId val="46660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66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4DD-C63D-4F17-8FE9-25E6FB21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FEE-A656-4176-A43D-710DFA1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F76-57C3-4ECE-9060-2D205814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F20-1697-421C-B487-EED404C3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018-B347-466F-AFF5-E47D57A2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436-3613-4343-BA43-82143991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DE8-8976-42F8-AA35-C03DB7D4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565-D03A-43D0-8F37-AE97D578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C32-9D94-4307-9732-03AB83F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3EA-8941-4838-B208-05E87DA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53F-A664-47C8-93EE-0B4F170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5EE-BBC9-47BD-B224-2C1F4B0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9D359-AF54-413A-9EDC-F5472A733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