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46544"/>
        <c:axId val="74587277"/>
      </c:barChart>
      <c:catAx>
        <c:axId val="69346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87277"/>
        <c:crosses val="autoZero"/>
        <c:auto val="1"/>
        <c:lblAlgn val="ctr"/>
        <c:lblOffset val="100"/>
        <c:noMultiLvlLbl val="0"/>
      </c:catAx>
      <c:valAx>
        <c:axId val="74587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46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A87-D3C1-4A1A-BB89-02C9E202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04E-A318-4D21-8D6C-002FC942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9E0-6EEC-4DD0-B5A5-1CDF3A17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FB3-F2C7-4CAF-BC93-C098B5A1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CFE-2460-46EE-AE80-3AE1A45A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EB5D-C2E5-4BEC-815A-06E4F790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CDBC-28E0-4AA7-8324-14668E18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08C-57CD-4C8F-B70E-FE9828F4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974-9C30-46C3-B9B5-E7939E72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1C0-0DF2-45D4-A8AC-A961EC36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D95-6C69-41C1-B57A-D286BEFC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589-C8E3-4541-8D43-A27AED5D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BD630-4564-440B-B032-7B22C4F23D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