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096982"/>
        <c:axId val="30247384"/>
      </c:barChart>
      <c:catAx>
        <c:axId val="450969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47384"/>
        <c:crosses val="autoZero"/>
        <c:auto val="1"/>
        <c:lblAlgn val="ctr"/>
        <c:lblOffset val="100"/>
        <c:noMultiLvlLbl val="0"/>
      </c:catAx>
      <c:valAx>
        <c:axId val="302473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969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D1A5-88DE-43B3-B1E0-E56CD92A9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61B6-9BEE-48B8-B41A-314A491F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6BA8-9C05-46DA-A560-F357908A1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3EEB-6DCC-4331-B580-40F596162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1D0B-5697-41B6-984E-0D798F12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2B79-FB87-4B27-95E7-6E9CA382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ED46-FD7F-4226-99D6-27D30363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3EA5-3C3F-4C37-8CFF-1565B927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BDF4-0D4A-4918-A4AB-9E5FDF72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1DD4-E3CD-49AA-9A70-DD3516E7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139F-90F4-4BD0-A305-22AF3086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40D2-93B1-46B1-9D53-9FB2BDC9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FD7BD-7764-4720-B3AE-039FB56313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