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8151"/>
        <c:axId val="69283224"/>
      </c:barChart>
      <c:catAx>
        <c:axId val="55628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83224"/>
        <c:crosses val="autoZero"/>
        <c:auto val="1"/>
        <c:lblAlgn val="ctr"/>
        <c:lblOffset val="100"/>
        <c:noMultiLvlLbl val="0"/>
      </c:catAx>
      <c:valAx>
        <c:axId val="69283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8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383-9799-4FBF-9D0D-250FC70C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65E-FCC0-4C6A-8ED2-82162E8E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96E-6803-4242-B4BF-39B1883A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24B-7EF9-4ED7-8EB9-6607DDCE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8F0-EF16-47C6-951E-E9B1FFCF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A9A-6D21-4F74-B9C8-6DEF3DE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8F4-654F-4BF0-B8E6-10F0A2A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074-8792-4C90-8631-69A99E5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9A5-B016-4033-91A5-4313AA1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33C-D1C0-4CB4-A5C0-C94680A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AE1-5C0A-44F2-A9DF-6F642A0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AAF-3A11-430F-B930-083C936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99F1B-A25A-4BA4-9514-0F0367C11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