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334092"/>
        <c:axId val="3909849"/>
      </c:barChart>
      <c:catAx>
        <c:axId val="373340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9849"/>
        <c:crosses val="autoZero"/>
        <c:auto val="1"/>
        <c:lblAlgn val="ctr"/>
        <c:lblOffset val="100"/>
        <c:noMultiLvlLbl val="0"/>
      </c:catAx>
      <c:valAx>
        <c:axId val="39098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340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B3E3-CD86-4099-8395-CD326CCA5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EAC7-12B1-464D-B371-5380916F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C317-7E1D-4839-9C1D-DAC821825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C8DC-E05C-4EAB-A344-69C5E433A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414A-1ACA-44A5-AE63-2B7A3CD8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A85D-819E-4C8A-93C3-414A9378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8D8B-F2B2-4794-8007-D7647E7A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9F3F-8BBB-48DF-81F2-60D883F8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2386-BC40-4B67-B706-CFA2B03F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8357-596D-4750-9F6F-8A2CB212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8274-DC5A-4CCC-8381-75BF7E08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C18F-0C90-4D11-8A81-A633F98C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F6ACB0-C95C-4206-A151-7C4BDB4CC9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