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63693"/>
        <c:axId val="62994253"/>
      </c:barChart>
      <c:catAx>
        <c:axId val="95263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94253"/>
        <c:crosses val="autoZero"/>
        <c:auto val="1"/>
        <c:lblAlgn val="ctr"/>
        <c:lblOffset val="100"/>
        <c:noMultiLvlLbl val="0"/>
      </c:catAx>
      <c:valAx>
        <c:axId val="62994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63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056-1489-4D39-9390-4123D6BB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D93-E24F-40BC-A9FF-2A333F4D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C72-24C2-453E-8EF6-099CDD24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45B-A904-4B09-B3D1-7374AB96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6F2-01C1-41F0-9844-278C304D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BF3-6D01-4FBB-A08D-6C95F96A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E8A-6B33-46FE-97CE-CCBA2451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876-C8D7-40D7-A1AD-B652688C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CB1-1666-49D8-94B4-E5C5557C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76B2-88D1-4A64-B0BD-FA8BF0B9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365-A8AF-44BD-B1B0-80768FB0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432-2184-4686-87BF-AE97A378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39A89-19D4-4E5B-AEF5-E2E576F276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