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62849"/>
        <c:axId val="29615077"/>
      </c:barChart>
      <c:catAx>
        <c:axId val="75362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15077"/>
        <c:crosses val="autoZero"/>
        <c:auto val="1"/>
        <c:lblAlgn val="ctr"/>
        <c:lblOffset val="100"/>
        <c:noMultiLvlLbl val="0"/>
      </c:catAx>
      <c:valAx>
        <c:axId val="29615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62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4F6-E9DA-482E-B66A-4288348B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60F-D5FF-46FB-9E9F-8CBDC068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99C-C5EB-4395-A911-E41732D3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47F-B2A5-47B2-AB7B-419D961D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CC8-B743-4480-B682-1D9B7131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2C83-EF3E-4A44-A64D-8BABBD01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2A9-5962-4D16-A827-14EDF1DB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AB2-5278-42B9-B03A-D8F7964E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7BA-D0E9-4AFB-92CB-45E0C51D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F42E-FED0-47A9-B119-6558EC2F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70A-FFE8-44F1-A75E-2800581B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7D7-90A6-4ED0-9547-C3E26E71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CFEC4-A19B-4189-9396-3B7D518AC7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