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56729"/>
        <c:axId val="74372913"/>
      </c:barChart>
      <c:catAx>
        <c:axId val="290567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72913"/>
        <c:crosses val="autoZero"/>
        <c:auto val="1"/>
        <c:lblAlgn val="ctr"/>
        <c:lblOffset val="100"/>
        <c:noMultiLvlLbl val="0"/>
      </c:catAx>
      <c:valAx>
        <c:axId val="743729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567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DBC9-6287-4289-969B-E3B3F669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C246-E616-4FCC-A642-3DBFD5B3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8F61-01E8-4F60-874A-E9F8DBD3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A0A2-AD05-4DD7-BAC7-C3E6F4FA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9956-F0CA-47C1-895D-F18F81AC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7784-1D46-45D3-9E79-6E530977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3CE1-0B19-4160-85EB-047415B4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9677-9AE3-4780-8787-A42BC39C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2742-87EA-422B-B00C-D907157F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DF46-A56F-46BF-A299-B2634751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7416-F79F-4BA9-9D69-327898E7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261D-A648-426A-AB1F-9CF35D68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C82D3-54A6-4CF7-837D-FBC3F587E3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