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8868"/>
        <c:axId val="38325193"/>
      </c:barChart>
      <c:catAx>
        <c:axId val="6358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5193"/>
        <c:crosses val="autoZero"/>
        <c:auto val="1"/>
        <c:lblAlgn val="ctr"/>
        <c:lblOffset val="100"/>
        <c:noMultiLvlLbl val="0"/>
      </c:catAx>
      <c:valAx>
        <c:axId val="38325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3A1-E5B1-477B-B3A7-044FA4FF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CBB-4D37-49AF-9D3A-D5D6E038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941-3C23-494B-A165-1D41A6B5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044-FD11-489B-9548-FB6D8904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357-9275-4EF7-A147-61E9A994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1AE-0CD3-4FF1-88A8-84BFC8C7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0C7-0D64-48BF-AB51-40B7A3B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7C9-1118-425E-B7DF-08D62503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3CA-A7A0-41DD-860B-24EC66E4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888-58B0-4570-B996-B76B867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DD8-221E-4647-A585-1E11151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192-C16D-446D-BD9E-E545ECBD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4BE34-CE68-4CA0-9187-87A256707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