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15509"/>
        <c:axId val="7804577"/>
      </c:barChart>
      <c:catAx>
        <c:axId val="94515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577"/>
        <c:crosses val="autoZero"/>
        <c:auto val="1"/>
        <c:lblAlgn val="ctr"/>
        <c:lblOffset val="100"/>
        <c:noMultiLvlLbl val="0"/>
      </c:catAx>
      <c:valAx>
        <c:axId val="7804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15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D16-9373-47AE-9857-3EF247D7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8A4-D786-46FD-82C9-97CF918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067-83CA-40ED-8AAC-1F99C53A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4AF-C35E-4092-9D11-73537612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40E-285A-4547-AFE4-DAC33664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3FA-4B5E-4011-BF46-4CFD14AB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47B-3773-4B13-8AF3-E33C26C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654-F65E-4EB0-8E09-3B1181C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78D-5C9F-4654-BFC1-C60C047C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100-694E-4393-B364-DB4A733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797-903A-4CB0-B3DC-E1933A4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4DC-BB66-4A4D-971E-0AACF19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4366-DD4A-4ED6-9E21-E701A71DA8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