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72720"/>
        <c:axId val="56178744"/>
      </c:barChart>
      <c:catAx>
        <c:axId val="89272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78744"/>
        <c:crosses val="autoZero"/>
        <c:auto val="1"/>
        <c:lblAlgn val="ctr"/>
        <c:lblOffset val="100"/>
        <c:noMultiLvlLbl val="0"/>
      </c:catAx>
      <c:valAx>
        <c:axId val="56178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72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B9B-736E-468B-B50B-3A3CDF06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FFD-8DEE-4736-9D53-609D0759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663-9C70-4526-84EE-EAA83ACA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E53-6529-463D-9255-9613CDDE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589-6E59-4459-A380-81C610DC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C3C-6F82-4F5D-9AAF-1B896818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81A-8FF2-44F2-B3F7-2E998A23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ADE-F473-47EB-B31D-D40496E4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916-4005-40C2-A1B2-8B664AF3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769-9341-464C-A931-B1962A68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E9B-B009-4585-84CB-21E68F9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2EF-7AF7-486D-B6B2-F5220FE6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9D4B0-FAC8-494E-8D7F-B2D1A00266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