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28590"/>
        <c:axId val="2278684"/>
      </c:barChart>
      <c:catAx>
        <c:axId val="1692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684"/>
        <c:crosses val="autoZero"/>
        <c:auto val="1"/>
        <c:lblAlgn val="ctr"/>
        <c:lblOffset val="100"/>
        <c:noMultiLvlLbl val="0"/>
      </c:catAx>
      <c:valAx>
        <c:axId val="2278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84D-5AF3-42D6-A23A-6602569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C69-3DB6-49CE-B9E3-FE49E5E9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959-C42E-4694-814F-46BAA7F1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6CF-05D1-4299-80A1-30653612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FB9-5303-4E4E-9330-DD66502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29A-547A-4294-A2E1-62C5B7E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C85-CAB1-4F33-AFA7-7FD1463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C0B-7488-4B72-AA78-3B1E5A3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3D0-9A13-4BEB-ABD5-1217DBEB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882-A60E-4E83-9F08-DB48AB0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324-8288-408D-B222-3024E61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E60-A5E4-4C5D-A4F5-BD4A242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239B-25BD-42B5-92D2-E8B25418E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