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551786"/>
        <c:axId val="19946894"/>
      </c:barChart>
      <c:catAx>
        <c:axId val="145517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946894"/>
        <c:crosses val="autoZero"/>
        <c:auto val="1"/>
        <c:lblAlgn val="ctr"/>
        <c:lblOffset val="100"/>
        <c:noMultiLvlLbl val="0"/>
      </c:catAx>
      <c:valAx>
        <c:axId val="199468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5517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E560-21A2-4393-8D32-028E4B6E9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1FFC-5E08-4A7F-A138-8F1F30A4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1F26-9D67-4B68-BF62-DC9A5204C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A04F-9EA2-4432-99C9-5083AE9FA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F565-8554-4C81-9A07-667A0BBC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DAE9-9413-4067-87DD-DFE77EB4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EB2D-E53C-44E0-BE49-8E72B287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4A3A-0041-4C91-930B-39B1E4B4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132F-A351-4814-86B3-CC0AF500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283B-FD4D-4436-8A8C-40F63BE1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5D56-EF6A-4A19-85CE-D702F191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8B3B-C865-41BC-B64C-5039270A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BA7D24-EDA2-441C-9680-CEE7DE0AE5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