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0922"/>
        <c:axId val="62790080"/>
      </c:barChart>
      <c:catAx>
        <c:axId val="7460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90080"/>
        <c:crosses val="autoZero"/>
        <c:auto val="1"/>
        <c:lblAlgn val="ctr"/>
        <c:lblOffset val="100"/>
        <c:noMultiLvlLbl val="0"/>
      </c:catAx>
      <c:valAx>
        <c:axId val="627900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0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685-FB42-47DE-AC4F-F34F84E3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75A1-890F-4576-87C0-C6D5DBAC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7FF-1208-4C8B-9A07-91A3F1E2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AE6-AEF0-4905-8DB5-AB1A840F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39B-4BCB-4B82-BE45-2B1FDE43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051-F89F-4097-A829-1F65559D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D05-A65C-4363-B763-B356D138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282-95DF-41C6-BBEC-CC65B798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339-4440-454D-9F1B-CBD88EDA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9B67-598A-4798-9120-240949A3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D0A8-CD49-4170-9AD0-92AFF67B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7D8-E579-4557-958E-7ECEBD82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BF17B-4D88-4AD0-8AA8-AA29CEBAA0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