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41012"/>
        <c:axId val="37569978"/>
      </c:barChart>
      <c:catAx>
        <c:axId val="94741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9978"/>
        <c:crosses val="autoZero"/>
        <c:auto val="1"/>
        <c:lblAlgn val="ctr"/>
        <c:lblOffset val="100"/>
        <c:noMultiLvlLbl val="0"/>
      </c:catAx>
      <c:valAx>
        <c:axId val="37569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41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0C1-CCE7-4288-B419-56882268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CE6-5D74-4F40-92D3-A35B339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ED9-627A-4A74-A9B3-E803E50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6D6-55A0-4E82-904F-10B05A4A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CCB-5826-497D-9088-669B7F47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1D1-4CC1-4BD5-B5E6-46465D3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7A1-D1AA-405B-961F-BA73850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393-4172-444D-99A3-5629431F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C1D-291B-46CA-82CA-8B690BEB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F24-67A0-4922-9F4C-8FC0E8A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6D3-829B-4EB9-80E9-30710F65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51C-35C6-4A44-8403-E69C838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E99A4-3A35-4A33-9D09-A5F8B5A792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