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22968"/>
        <c:axId val="39586680"/>
      </c:barChart>
      <c:catAx>
        <c:axId val="11322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86680"/>
        <c:crosses val="autoZero"/>
        <c:auto val="1"/>
        <c:lblAlgn val="ctr"/>
        <c:lblOffset val="100"/>
        <c:noMultiLvlLbl val="0"/>
      </c:catAx>
      <c:valAx>
        <c:axId val="39586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22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ED9-18D4-4FB5-805C-7B671CB3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3ED-40F9-4A40-BA8C-4E9080A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B0E-AD53-4591-8109-EC6B490E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97C-AF50-4C0A-8979-E51B6110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CE9-DAA3-4A9C-8105-C3C70B1E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558-72F5-49B5-958C-9D53D35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FCA-C6DE-4B60-8B3A-B818B93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E4D-2FB9-413A-B59B-C2BF2D4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F63-1C37-46EA-A928-03F29C60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DF5-8CB1-4851-A5DC-52D0653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DA0-9F60-40B1-8493-2F71D2A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972-6CBB-4416-9949-D4A782C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14D12-58BF-4F68-B819-BA1A2D3F5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