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90777"/>
        <c:axId val="94903319"/>
      </c:barChart>
      <c:catAx>
        <c:axId val="53790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03319"/>
        <c:crosses val="autoZero"/>
        <c:auto val="1"/>
        <c:lblAlgn val="ctr"/>
        <c:lblOffset val="100"/>
        <c:noMultiLvlLbl val="0"/>
      </c:catAx>
      <c:valAx>
        <c:axId val="94903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90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866-563F-433D-9E21-5BA11E59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D41-007C-4A0F-9C0B-8FCEF47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D97-BEE0-446E-8EB1-93EFB1BB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D52-A60B-4F6F-A53A-BDCBACEC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746-60F9-4DC3-AE1C-E51B5C56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204-A4E0-4E9B-ACF4-8B165754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B6C-86EC-4B5D-B50B-F28EF3C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C93-D7BB-4B3A-874B-D83C046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2CE-1EC6-4904-AE79-66DC80E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804-5073-415C-908B-DDA2ACC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E5C-2ABB-46AA-B317-3F56B237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E77-D3F0-4EAF-984F-B1690A4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C1AF5-67CF-4E25-8706-72048A925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