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98998"/>
        <c:axId val="22031288"/>
      </c:barChart>
      <c:catAx>
        <c:axId val="26298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1288"/>
        <c:crosses val="autoZero"/>
        <c:auto val="1"/>
        <c:lblAlgn val="ctr"/>
        <c:lblOffset val="100"/>
        <c:noMultiLvlLbl val="0"/>
      </c:catAx>
      <c:valAx>
        <c:axId val="22031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8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AC8-C121-44D0-8D1B-8559EEFD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516-3795-4CE7-AAD5-14D5505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830-354F-43B9-A2BB-0119DEF9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655-8A04-4990-8B67-4259F427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7F7-E996-4369-8DA1-E715E13E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79D-BA4A-4826-A0D8-3A4A7CF1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546-5D3C-4665-A46D-DBEEE09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350-8CAB-4849-AFEF-4B3FA51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C45-5242-4802-A01C-BEB4823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424-7F66-4A78-9434-8973E96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B9B-AF4D-4074-B963-A45E92F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99F-7962-466E-A23A-665E204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7DF0-1429-4896-9B99-95A04926B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