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2880"/>
        <c:axId val="6434049"/>
      </c:barChart>
      <c:catAx>
        <c:axId val="6932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4049"/>
        <c:crosses val="autoZero"/>
        <c:auto val="1"/>
        <c:lblAlgn val="ctr"/>
        <c:lblOffset val="100"/>
        <c:noMultiLvlLbl val="0"/>
      </c:catAx>
      <c:valAx>
        <c:axId val="6434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2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AC1-A332-46CB-8C07-E4C73793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C83-B5E2-4FD7-AEFC-596B6073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39A-098C-4076-BC28-7C7AB495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D81-F97E-4125-BADC-B309C53F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2BA-A8B0-4ECB-8CC3-D76D0F63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A74-C61E-47A7-A447-9E9F6E5B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72C-8523-4358-9D32-8ED937B6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A47-FA80-4D5B-AB4D-E045C936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350-40B4-4CA8-8410-D2A9C124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601-3F45-4D91-AA52-47F99DD4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144-7C9C-4F5E-8F9F-B4F9E36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F45-6B7F-4AFB-B822-FAF34F02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BA024-49A7-4F41-AC1A-B81777D6A9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