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43897"/>
        <c:axId val="23240274"/>
      </c:barChart>
      <c:catAx>
        <c:axId val="98443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40274"/>
        <c:crosses val="autoZero"/>
        <c:auto val="1"/>
        <c:lblAlgn val="ctr"/>
        <c:lblOffset val="100"/>
        <c:noMultiLvlLbl val="0"/>
      </c:catAx>
      <c:valAx>
        <c:axId val="23240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3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345-5111-4A37-BA94-F6C936D7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870-08D5-49FA-A39B-26F8B623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FB4-7DC7-4BEA-A0E3-35F1459C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759-86C0-497B-8090-765DCF0B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6C4-4440-4CD0-A264-0D0A0FE3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9EA-5062-4B58-9543-05A1C6FF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543-EC41-483D-BD70-70DE9342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94A-C5E0-4B5A-A0DA-8A15D36C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64C-2793-45EA-8C60-ECB1AC00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511-F1D6-4EB5-98BD-B8633A01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7F4-F721-4E8C-91F5-50BED29B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7B6-B4C5-4FC3-9FDB-D767DBC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BF742-76D4-4D81-8658-65F97557D0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